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E94A0-A651-4314-A2FA-29DA7B9EEAA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D23D-D371-4BCA-8CA9-B3FAB938E3A6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8D02-EB9A-4EFF-B251-940CA840613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1697-3F52-4DB0-BE12-C1D362E4C3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ED86D-71BF-4118-A68C-3A8F1D4F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0FAB-5057-4CD0-B031-25CE639D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2C00E-1A0F-4A71-8E4C-C423A7366D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CC6FE-4945-424D-94D6-3FAD5698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27122-33B3-4B95-BF3D-FFB383C19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7ABD2-7637-43EA-B208-9DF44F4CF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CAC1-A768-4C21-9C42-8BC0DA9BC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F4EF0-E810-4531-8DBA-B94B0CD9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4D4F4-D7D1-4D3E-AE15-0BB58A37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7AECA-D45B-4306-A0B1-33C59A27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AD771-9196-4EB8-913F-9F998BA7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7AEB-2D86-47A8-AF1F-6EFFFFCB13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十一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休息与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睡眠的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发生机制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生理特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的时相：慢波睡眠和快波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周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性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69720" y="942480"/>
            <a:ext cx="847440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失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发作性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过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呼吸暂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剥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游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梦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惊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遗尿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690840" indent="-2656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节律改变：表现为昼夜性节律去同步化，又称节律移位，是指患者正常的昼夜性节律遭到破坏，睡眠与昼夜性节律不协调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质量改变：各睡眠时相持续的时间、睡眠深度及睡眠效果三方面协调一致的综合体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9144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满足患者身体舒适的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或解除心理压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创造良好的睡眠环境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理使用药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建立良好的睡眠习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做好晚间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03120" y="115920"/>
            <a:ext cx="858204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标题 1"/>
          <p:cNvSpPr/>
          <p:nvPr/>
        </p:nvSpPr>
        <p:spPr>
          <a:xfrm>
            <a:off x="357120" y="31284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动受限的原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疼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系统结构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营养状态改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心理因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护理措施的实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3640" y="1197000"/>
            <a:ext cx="84740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动受限对机体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皮肤的影响损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骨骼肌肉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萎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质疏松、关节僵硬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挛缩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心血管系统的影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直立性低血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栓形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呼吸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消化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、厌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泌尿系统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尿困难、尿潴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结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泌尿道感染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心理－社会方面的影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标题 1"/>
          <p:cNvSpPr/>
          <p:nvPr/>
        </p:nvSpPr>
        <p:spPr>
          <a:xfrm>
            <a:off x="223920" y="142920"/>
            <a:ext cx="858024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活动的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476280" y="333360"/>
            <a:ext cx="858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休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活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活动的评估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重点：患者对日常生活活动、生活自理能力、活动耐力、影响患者活动的主要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方法：问诊、体格检查和辅助检查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估的内容：患者的一般资料、心肺功能状态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骨骼肌肉状态、关节功能状态、机体活动能力、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前的患病情况、社会心理状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活动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变换体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节活动范围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的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关节活动度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关节僵硬、粘连和挛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血液循环，有利于关节营养的供给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恢复关节功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肌张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操作方法：详见教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关节活动度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面评估患者情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过程注意观察不良反应及耐受性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急性关节炎、骨折、肌腱断裂、关节脱位的患者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RO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练习时，应在临床医生和康复医生的指导下完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动后及时记录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长练习：可增加肌肉张力而不改变肌肉长度的练习称为等长练习，因不伴有明显的关节运动，又称静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857160" indent="-4572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：指对抗一定的负荷作关节的活动锻炼，同时也锻炼肌肉收缩。因伴有大幅度关节运动，又称动力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肌肉练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患者的病情及运动需要为依据，制订适合患者的运动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肌肉锻炼前后应作充分地准备及放松运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严格掌握运动的量与频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肌肉等长收缩引起的升压反应及增加心血管负荷的作用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过程中如果出现不适应该停止锻炼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384120" y="33336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活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护理措施哪项有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创造良好的睡眠环境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改变患者的睡眠习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安排护理措施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理使用药物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心理护理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24768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24000" y="237960"/>
            <a:ext cx="85802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大量分泌生长激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体力恢复，发生在睡眠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NRE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Ⅳ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 REM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期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睡眠时相的描述，正确的是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成人进入睡眠后，首先是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越接近睡眠的后期，慢波睡眠的持续时间越长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两种睡眠时相均可直接转为觉醒状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觉醒状态下可以进入快波睡眠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慢波睡眠又称异相睡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53880" y="236520"/>
            <a:ext cx="8580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476280" y="236520"/>
            <a:ext cx="85802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列关于发作性睡眠的描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的是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属于慢波睡眠障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静的环境不易发作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患者由清醒状态直接进入慢波睡眠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性睡眠与正常睡眠不同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猝倒症是最危险的并发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976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休息、睡眠、关节活动练习、等长练习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等张练习等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举常见睡眠障碍的类型和主要表现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活动受限的原因和其对机体的影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理解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比较睡眠两个时相的不同特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举例说明影响睡眠的因素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促进休息和睡眠的护理措施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简述患者活动评估的内容和协助活动的要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陈述关节活动范围和肌肉练习的注意事项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能正确为患者提供促进休息和睡眠的护理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的病情和需要，按规程协助患者进行关节活动范围和肌肉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意义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息的形式与条件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心理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睡眠方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患者休息的措施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增加身体的舒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心理的放松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环境的和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证足够的睡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休息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睡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睡眠的原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休息与睡眠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常见的睡眠障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住院患者睡眠的特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促进睡眠的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暴海燕</cp:lastModifiedBy>
  <dcterms:modified xsi:type="dcterms:W3CDTF">2016-01-25T06:55:20Z</dcterms:modified>
  <cp:revision>141</cp:revision>
  <dc:subject/>
  <dc:title>内科护理学</dc:title>
</cp:coreProperties>
</file>